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0591396"/>
        <c:axId val="22929294"/>
      </c:barChart>
      <c:catAx>
        <c:axId val="8059139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2929294"/>
        <c:crosses val="autoZero"/>
        <c:auto val="1"/>
        <c:lblAlgn val="ctr"/>
        <c:lblOffset val="100"/>
        <c:noMultiLvlLbl val="0"/>
      </c:catAx>
      <c:valAx>
        <c:axId val="2292929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59139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BF3FD-4C03-400F-9D5B-E9A09F00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309B1-2F75-4A9A-8E8B-D93E576D6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E8F8-FEFA-49E4-98D1-4F4695FB4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462DE-5835-4745-84BF-2A7B4769E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0A414-89E1-4CA7-B0A1-124909B11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FA2CE-6E4A-4C25-B27C-3B8481195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88CBA-621C-473C-ACA0-3F680E166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75D06-2314-4D07-9EF4-C87B7CA3A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30247-7083-4802-94D8-D4C298A11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3DA01-7902-4D18-A11A-F4EE1909F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43F0B-FB93-4E3E-8257-E67B288C2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5AC1A-A160-4FB9-A046-53C52671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CB45C-BC9B-4FAC-AB93-E095FB70D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DE83-B5DC-4EDA-A874-3E0CC5F21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D579-65EB-4F70-A848-8083D3644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0C37E-AA24-4A03-97B2-61B186AE5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ADD33-01E2-493E-BCB4-289E6E3B7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A450-7998-482D-8512-CCC6A04D9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DA2C-78DA-4671-9DF2-A74403B5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B734-EF14-4876-AEB7-E10CD641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CF82-5B8F-4B88-8E33-CBD681B1F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1B67-7164-4B8A-83F2-5FC8D376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25BB-8256-4A6E-A292-49EFAE474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D646-FC4B-4F29-8402-DEC44D1CE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BE1B8-B0A5-4B65-9460-0DA4F538560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12DF8-F306-47AE-9701-038BE46DEFC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